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4.jpeg" ContentType="image/jpeg"/>
  <Override PartName="/ppt/media/image25.jpeg" ContentType="image/jpeg"/>
  <Override PartName="/ppt/media/image28.wmf" ContentType="image/x-wmf"/>
  <Override PartName="/ppt/media/image6.jpeg" ContentType="image/jpeg"/>
  <Override PartName="/ppt/media/image19.jpeg" ContentType="image/jpeg"/>
  <Override PartName="/ppt/media/image31.wmf" ContentType="image/x-wm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3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E06-FEC1-4066-BD59-9E8313E4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9B6-CE5E-4F69-9941-E0BE2179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BE4-B78B-40E8-BB9A-F526C6EA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169-A050-49CA-AF12-0D6A72B2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5615-604E-407B-8CEE-E6720233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CBAB-E1FA-4A8D-AA47-DCA01D38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0172-E2C1-4C96-8647-9E345BC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9E9E-0A08-478A-8A0F-E53EB6A9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B990-F787-4923-B6BD-9DCC29BD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F1D4-5413-4CE5-8C1D-262B937A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6598-DA8C-4948-BA7F-2F74A8E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50A-5872-46AE-95DF-7FAEEFF7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6663-2657-4DED-9231-9EE02CFB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742D-DCCD-4878-BDC2-FBFF291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3A83-F579-460E-8003-0988D2CC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3DE3-462B-4D6E-8C6F-0F360381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1A96-3851-4616-9326-CA4C2CAE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522-AB8C-4767-BCEC-D19BD560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3C8-EFB8-4AF1-B220-EA6B346B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A9E-4A68-44E3-B611-4BAD5001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212-3B33-4D02-925F-B8AE0A50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2A4-CA91-4D13-8AB1-0DD3AEE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00F-893D-42C8-8A32-C81696DF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4F7-FB2D-400E-BB92-AB365EA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822A-30EF-4E0A-87F6-61B41438EF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25B7-0BBA-424F-8E40-6A1989682D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20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uced Voltages and Induc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Electromagnetic Induction –</a:t>
            </a:r>
            <a:br>
              <a:rPr sz="4200"/>
            </a:b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n Experiment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a magnet moves toward a loop of wire, the ammeter shows the presence of a current (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the magnet is held stationary, there is no current (b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the magnet moves away from the loop, the ammeter shows a current in the opposite direction (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f the loop is moved instead of the magnet, a current is also detec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78320" y="1828800"/>
            <a:ext cx="348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Electromagnetic Induction – Results of the Experiment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urrent is set up in the circuit as long as there i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lative mo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tween the magnet and the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e experimental results are found whether the loop moves or the magnet mo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rrent is called a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nduced curr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ecause is it produced by an induced e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Law and Electromagnetic Indu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instantaneous emf induced in a circuit equals the time rate of change of magnetic flux through the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circuit contains N tightly wound loops and the flux changes by ΔΦ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uring a time interval Δt, the average emf induced is given by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araday’s Law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952880" y="5562720"/>
                <a:ext cx="21337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N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Φ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Law and Lenz’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nge in the flux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ΔΦ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can be produced by a change in B, A o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B A cos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gative sign in Faraday’s Law is included to indicate the polarity of the induced emf, which is found by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nz’ Law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caused by the induced emf travels in the direction that creates a magnetic field with flux opposing the change in the original flux through the circu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 –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agnetic field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becomes smaller with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reduces the fl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duced current will produce an induced field,  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in the same direction as the original fie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973920" y="2906640"/>
          <a:ext cx="152280" cy="2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3920" y="2906640"/>
                    <a:ext cx="1522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952880" y="2313000"/>
            <a:ext cx="3962520" cy="36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14600" y="5105520"/>
          <a:ext cx="28584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51055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676520" y="2438280"/>
          <a:ext cx="28548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2438280"/>
                    <a:ext cx="285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Applications of Faraday’s Law – Ground Fault Interrupters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round fault interrupter (GFI) is a safety device that protects against electrical sho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re 1 leads from the wall outlet to the appli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re 2 leads from the appliance back to the wall outl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ron ring confines the magnetic field, which is generally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leakage occurs, the field is no longer 0 and the induced voltage triggers a circuit breaker shutting off the curr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56080" y="259092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Faraday’s Law – Electric Guita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vibrating string induces an emf in a co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ermanent magnet inside the coil magnetizes a portion of the string nearest the co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he string vibrates at some frequency, its magnetized segment produces a changing flux through the pickup co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anging flux produces an induc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f that is fed to an amplif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611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Faraday’s Law – Apnea Moni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il of wire attached to the chest carries an alternating curr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induced emf produced by the varying field passes through a pick up co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breathing stops, the pattern of induced voltages stabilizes and external monitors sound an ale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91120" y="2336760"/>
            <a:ext cx="47638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of Faraday’s Law – Motional em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raight conductor of length ℓ moves perpendicularly with constant velocity through a uniform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s in the conductor experience a magnetic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 = q v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ectrons tend to move to the lower end of the condu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976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al em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the negative charges accumulate at the base, a net positive charge exists at the upper end of the 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result of this charge separation, an electric field is produced in the 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rges build up at the ends of the conductor until the downward magnetic force is balanced by the upward electric fo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is a potential difference between the upper and lower ends of the 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ichael Farada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91 – 186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at experimental scient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ed electric motor, generator and transfo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overed electromagnetic in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overed laws of electro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673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al emf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difference between the ends of the conductor can be found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ΔV = B ℓ 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per end is at a higher potential than the lower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otential difference is maintained across the conductor as long as there is motion through the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motion is reversed, the polarity of the potential difference is also rever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al emf in a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ume the moving bar has zero resist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the bar is pulled to the right with a given velocity under the influence of an applied force, the free charges experience a magnetic force along the length of the b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force sets up an induced current because the charges are free to move in the closed pa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70600" y="1905120"/>
            <a:ext cx="39211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al emf in a Circui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nging magnetic flux through the loop and the corresponding induced emf in the bar result from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ange in are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duced, motional emf, acts like a battery in the circu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60800" y="2162160"/>
            <a:ext cx="399420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1219320" y="5334120"/>
          <a:ext cx="3657600" cy="92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334120"/>
                    <a:ext cx="36576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 Revisited – Moving Bar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the bar moves to the right, the magnetic flux through the circuit increases with time because the area of the loop incre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duced current must be in a direction such that it opposes the change in the external magnetic flu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495680" y="1854360"/>
            <a:ext cx="45259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, Bar Examp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x due to the external field is increasing into the p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x due to the induced current must be out of the p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fore the current must be counterclockwise when the bar moves to the 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, Bar Exampl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r is moving toward the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etic flux through the loop is decreasing with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duced current must be clockwise to to produce its own flux into the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63572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 Revisited, Conservation of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the bar is moving to the r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the induced current is clockw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etic force on the bar would be to the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 would cause an acceleration and the velocity would incr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would cause the flux to increase and the current to increase and the velocity to increas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would violate Conservation of Energy and so therefore, the current must be counterclockw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 – Moving Magnet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r magnet is moved to the right toward a stationary loop of wire (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he magnet moves, the magnetic flux increases with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duced current produces a flux to the left, so the current is in the direction shown (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967040"/>
            <a:ext cx="2349360" cy="2147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45000" y="2043000"/>
            <a:ext cx="2361960" cy="199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477120" y="1967040"/>
            <a:ext cx="22730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enz’ Law, Final No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pplying Lenz’ Law, there ar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agnetic fields to consi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xternal changing magnetic field that induces the current in the lo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gnetic field produced by the current in the lo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Tape Record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gnetic tape moves past a recording and playback 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ape is a plastic ribbon coated with iron oxide or chromium ox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cord, the sound is converted to an electrical signal which passes to an electromagnet that magnetizes the tape in a particular patte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layback, the magnetized pattern is converted back into an induced current driving a spea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4593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Experiment – Set Up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urrent can be produced by a changing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shown in an experiment by Michael Fara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rimary coil is connected to a batte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condary coil is connected to an am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4118040"/>
            <a:ext cx="3886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enera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ng Current (AC) gener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ts mechanical energy to electrical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a wire loop rotated by some external me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 variety of sources that can supply the energy to rotate the 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ay include falling water, heat by burning coal to produce s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 Generator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c operation of the gene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the loop rotates, the magnetic flux through it changes with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nduces an emf and a current in the external circu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nds of the loop are connected to slip rings that rotate with the 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nections to the external circuit are made by stationary brushes in contact with the slip r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230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 Generator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mf generated by the rotating loop can be foun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ε =2 B 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2 B ℓv sin 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loop rotates with a constant angular speed, ω, and N tu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ε = N B A ω sin ω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ε = 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n loop is parallel to the 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ε = 0 when when the loop is perpendicular to the fie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5356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 Generators – Detail of Rotating Loop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etic force on the charges in the wires AB and CD is perpendicular to the length of the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mf is generated in wires BC and 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mf produced in each of these wires is ε= B 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B ℓv sin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051440" y="2209680"/>
            <a:ext cx="501624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C Genera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nents are essentially the same as that of an ac gene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 difference is the contacts to the rotating loop are made by a split ring, or commut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886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C Generator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utput voltage always has the same polar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is a pulsing curr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produce a steady current, many loops and commutators around the axis of rotation are u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ultiple outputs are superimposed and the output is almost free of fluctu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593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ors are devices that convert electrical energy into mechanical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otor is a generator run in re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otor can perform useful mechanical work when a shaft connected to its rotating coil is attached to some external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ors and Back em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r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ack em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used for an emf that tends to reduce the applied cur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motor is turned on, there is no back emf ini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is very large because it is limited only by the resistance of the c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56080" y="2133720"/>
            <a:ext cx="43830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ors and Back emf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coil begins to rotate, the induced back emf opposes the applied vol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rent in the coil is re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wer requirements for starting a motor and for running it under heavy loads are greater than those for running the motor under average loa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f-induct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f-induct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n the changing flux through a circuit arises from the circuit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the current increases, the magnetic flux through a loop due to this current also incre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creasing flux induces an emf that opposes the change in magnetic flu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the magnitude of the current increases, the rate of increase lessens and the induced emf decrea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opposing emf results in a gradual increase of the curr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Experime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urpose of the secondary circuit is to detect current that might be produced by the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switch is closed, the ammeter reads a current and then returns to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switch is opened, the ammeter reads a current in the opposite direction and then returns to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re is a steady current in the primary circuit, the ammeter read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f-inductance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lf-induced emf must be proportional to the time rate of change of the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 is a proportionality constant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uct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de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gative sign indicates that a changing current induces an emf in opposition to that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785960" y="3106800"/>
          <a:ext cx="19159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106800"/>
                    <a:ext cx="19159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lf-inductanc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ductance of a coil depends on geometric fa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I unit of self-inductance is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en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H = 1 (V · s) /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can determine an expression for 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54320" y="5548320"/>
          <a:ext cx="31878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4320" y="5548320"/>
                    <a:ext cx="31878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Joseph Henr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797 – 187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director of the Smithsoni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president of the Academy of Natural Sci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to produce an electric current with a magnetic fie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the design of the electro-magnetic and constructed a mo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overed self-induct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214960" y="1905120"/>
            <a:ext cx="385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ductor in a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tance can be interpreted as a measure of opposition to the rate of change in the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resistance R is a measure of opposition to the cur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circuit is completed, the current begins to increase, but the inductor produces an emf that opposes the increasing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, the current doesn’t change from 0 to its maximum instantaneous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L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current reaches its maximum, the rate of change and the back emf are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ime constan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or an RL circuit is the time required for the current in the circuit to reach 63.2% of its final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114800" y="2209680"/>
            <a:ext cx="48006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L Circui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ime constant depends on R and 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rrent at any time can be found 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27080" y="2954160"/>
          <a:ext cx="125100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7080" y="2954160"/>
                    <a:ext cx="1251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471760" y="5318280"/>
          <a:ext cx="290520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1760" y="5318280"/>
                    <a:ext cx="29052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Stored in a Magnetic Fiel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mf induced by an inductor prevents a battery from establishing an instantaneous current in a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ttery has to do work to produce a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work can be thought of as energy stored by the inductor in its magnetic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½ L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ywhere 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6,10,13,18,20,23,25,32,34,36,38,40,4748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raday’s Conclus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lectrical current is produced by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hang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condary circuit acts as if a source of emf were connected to it for a short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ustomary to say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 induced emf is produced in the secondary circuit by the changing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Flux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mf is actually induced by a change in the quantity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etic flu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ather than simply by a change in the magnetic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etic flux is defined in a manner similar to that of electrical fl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etic flux is proportional to both the strength of the magnetic field passing through the plane of a loop of wire and the area of the lo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Flux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are given a loop of w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re is in a uniform magnetic fiel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oop has an area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ux is defined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= B A cos 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θ is the angle between B and the normal to the pl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362320" y="3335400"/>
          <a:ext cx="342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335400"/>
                    <a:ext cx="34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111640" y="1981080"/>
            <a:ext cx="3956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Flux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4571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field is perpendicular to the plane of the loop, as in a, θ = 0 and 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, ma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field is parallel to the plane of the loop, as in b, θ = 90° and 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lux can be negative, for example if θ = 180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units of flux are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² = Wb (Web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gnetic Flux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x can be visualized with respect to magnetic field 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value of the magnetic flux is proportional to the total number of lines passing through the 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area is perpendicular to the lines, the maximum number of lines pass through the area and the flux is a max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area is parallel to the lines, no lines pass through the area and the flux is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21:11:15Z</dcterms:created>
  <dc:creator>Brooks/Cole</dc:creator>
  <dc:description/>
  <dc:language>en-US</dc:language>
  <cp:lastModifiedBy>DCPS</cp:lastModifiedBy>
  <dcterms:modified xsi:type="dcterms:W3CDTF">2008-02-04T18:33:55Z</dcterms:modified>
  <cp:revision>27</cp:revision>
  <dc:subject/>
  <dc:title>Chapter 20</dc:title>
</cp:coreProperties>
</file>